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ShockwaveFlash1"/>
          <p:cNvGraphicFramePr/>
          <p:nvPr/>
        </p:nvGraphicFramePr>
        <p:xfrm>
          <a:off x="8172360" y="0"/>
          <a:ext cx="9716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72360" y="0"/>
                    <a:ext cx="97164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" Target="slide58.xml"/><Relationship Id="rId6" Type="http://schemas.openxmlformats.org/officeDocument/2006/relationships/slide" Target="slide54.xml"/><Relationship Id="rId7" Type="http://schemas.openxmlformats.org/officeDocument/2006/relationships/slide" Target="slide51.xml"/><Relationship Id="rId8" Type="http://schemas.openxmlformats.org/officeDocument/2006/relationships/slide" Target="slide42.xml"/><Relationship Id="rId9" Type="http://schemas.openxmlformats.org/officeDocument/2006/relationships/slide" Target="slide62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138575.htm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《祝福》"/>
          <p:cNvPicPr/>
          <p:nvPr/>
        </p:nvPicPr>
        <p:blipFill>
          <a:blip r:embed="rId2"/>
          <a:stretch/>
        </p:blipFill>
        <p:spPr>
          <a:xfrm>
            <a:off x="4608360" y="239760"/>
            <a:ext cx="4500720" cy="3240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结果"/>
          <p:cNvPicPr/>
          <p:nvPr/>
        </p:nvPicPr>
        <p:blipFill>
          <a:blip r:embed="rId3"/>
          <a:srcRect l="2832" t="6054" r="2544" b="4706"/>
          <a:stretch/>
        </p:blipFill>
        <p:spPr>
          <a:xfrm>
            <a:off x="4633920" y="3429000"/>
            <a:ext cx="4510080" cy="271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12320" y="404640"/>
            <a:ext cx="2008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方正姚体"/>
              </a:rPr>
              <a:t>祝福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920" y="1268280"/>
            <a:ext cx="14094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没有春天的女人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62848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榕江县民族中学     罗铃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76000" y="4365720"/>
            <a:ext cx="67676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  《灯下漫笔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2720" y="842760"/>
            <a:ext cx="6977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无数的人肉的筵宴，即从有文明以来一直排到现在，人们就在这会场中</a:t>
            </a:r>
            <a:r>
              <a:rPr b="1" lang="zh-CN" sz="3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吃人，被吃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凶人的愚妄的欢呼，将悲惨的弱者的呼号遮掩，更不消说女人和小儿。”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25680" y="2735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0240" y="372960"/>
            <a:ext cx="23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关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祝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560" y="1746360"/>
            <a:ext cx="7948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旧时浙江绍兴一带曾经流行过的一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迷信习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每当旧历年底，地主和有钱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举行年终大典，杀鸡、宰鹅、买猪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将三牲煮熟作为“福礼”，恭请天神和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享用，感谢他们保佑当年“平安”，并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来年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649440"/>
            <a:ext cx="2733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寒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暄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陈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朱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荸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呜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咀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72000" y="620640"/>
            <a:ext cx="2916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蹒跚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瞥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熟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醉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620640"/>
            <a:ext cx="208944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渣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滓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炮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草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缩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享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牲</a:t>
            </a: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0800" y="6904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0800" y="1486080"/>
            <a:ext cx="21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50800" y="22780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50800" y="31417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39337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í q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726080"/>
            <a:ext cx="18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6840" y="5589720"/>
            <a:ext cx="21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ǔ j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5200" y="62064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1413000"/>
            <a:ext cx="23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áo l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227484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24280" y="3070080"/>
            <a:ext cx="22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393372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472608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5864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89040"/>
            <a:ext cx="20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48104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án s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227952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i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3071880"/>
            <a:ext cx="18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40480" y="386064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47926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94440" y="55846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428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隶书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640" y="981000"/>
            <a:ext cx="8964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执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咬文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      负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形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两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沸反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         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踌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一轮        桌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讪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惴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胆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1609c3"/>
                </a:solidFill>
                <a:latin typeface="Arial"/>
              </a:rPr>
              <a:t>怔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10555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0560" y="10555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1640" y="1701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1701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25621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920" y="25621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óu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88360" y="1701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3357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8920" y="35701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9440" y="3570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44402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1640" y="44402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35640" y="451332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88360" y="11224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j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88360" y="25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k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2000" y="1413000"/>
            <a:ext cx="6983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关于祥林嫂之死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隶书"/>
              </a:rPr>
              <a:t>刑 侦 报 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侦办单位：高一（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5720" y="2077920"/>
            <a:ext cx="178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死  者  分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0680" y="2077920"/>
            <a:ext cx="1610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嫌 疑 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91280" y="4527720"/>
            <a:ext cx="2663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死亡原因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4527720"/>
            <a:ext cx="266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报 案 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3086280"/>
            <a:ext cx="266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死亡时间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3086280"/>
            <a:ext cx="266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死亡地点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5751360"/>
            <a:ext cx="2519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结     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0920" y="114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53b2b9"/>
                </a:solidFill>
                <a:uFillTx/>
                <a:latin typeface="Arial"/>
              </a:rPr>
              <a:t>案件回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30364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案件回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83664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节        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555920"/>
            <a:ext cx="1944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序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结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开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高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尾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0040" y="2492280"/>
            <a:ext cx="1012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907920"/>
            <a:ext cx="16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7800" y="18194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—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0160" y="254016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—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7440" y="3355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—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7440" y="4122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—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78760" y="4840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6—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440" y="5635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1916280"/>
            <a:ext cx="627120" cy="4103640"/>
          </a:xfrm>
          <a:custGeom>
            <a:avLst/>
            <a:gdLst>
              <a:gd name="textAreaLeft" fmla="*/ 83880 w 627120"/>
              <a:gd name="textAreaRight" fmla="*/ 543240 w 627120"/>
              <a:gd name="textAreaTop" fmla="*/ 776880 h 4103640"/>
              <a:gd name="textAreaBottom" fmla="*/ 277308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81" stAng="-5400000" swAng="5400000"/>
                <a:lnTo>
                  <a:pt x="21600" y="10505"/>
                </a:lnTo>
                <a:arcTo wR="21600" hR="8181" stAng="0" swAng="2548532"/>
                <a:lnTo>
                  <a:pt x="8257" y="20979"/>
                </a:lnTo>
                <a:lnTo>
                  <a:pt x="0" y="17524"/>
                </a:lnTo>
                <a:lnTo>
                  <a:pt x="8257" y="12827"/>
                </a:lnTo>
                <a:lnTo>
                  <a:pt x="8257" y="15741"/>
                </a:lnTo>
                <a:arcTo wR="21600" hR="8181" stAng="2548532" swAng="-2361884"/>
                <a:lnTo>
                  <a:pt x="21381" y="9343"/>
                </a:lnTo>
                <a:arcTo wR="21600" hR="8181" stAng="-186649" swAng="-5213351"/>
                <a:close/>
              </a:path>
              <a:path fill="darkenLess" w="21600" h="21600">
                <a:moveTo>
                  <a:pt x="0" y="0"/>
                </a:moveTo>
                <a:arcTo wR="21600" hR="8181" stAng="-5400000" swAng="5400000"/>
                <a:lnTo>
                  <a:pt x="21600" y="10505"/>
                </a:lnTo>
                <a:arcTo wR="21600" hR="8181" stAng="0" swAng="-186649"/>
                <a:lnTo>
                  <a:pt x="21381" y="9343"/>
                </a:lnTo>
                <a:arcTo wR="21600" hR="8181" stAng="-186649" swAng="-5213351"/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16970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回到鲁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8280" y="248904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听到祥林嫂的死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3320" y="32130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林嫂外逃到鲁镇当女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35520" y="3860640"/>
            <a:ext cx="315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被劫被迫改嫁，后丧夫失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再到鲁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5400" y="4724280"/>
            <a:ext cx="315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捐献门槛，未能赎罪，被逐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沦为乞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55800" y="5661000"/>
            <a:ext cx="620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”见到鲁镇“祝福”场景及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本案件用倒叙的方式来叙述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" y="9079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点：使用倒叙的手法，将结局放在了文章的头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040" y="141120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77156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情节安排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把悲剧结局放在前面，巧妙地为读者设置了一个悬念，有一定吸引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779560"/>
            <a:ext cx="821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从小说矛盾关系上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小说开头写祥林嫂在富人们的一片祝福声中寂然死去，而且引起了鲁四老爷的愤怒，“不早不迟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就可见是一个种！”，突出鲁四老爷与祥林嫂之间的尖锐矛盾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突出反封建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6560" y="5084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祥林嫂在富人们一片祝福声中寂然死去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渲染浓厚的悲剧气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乐景写哀情，反衬人物的悲惨命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83480" y="476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提示：在情节、主题、气氛三方面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771480"/>
            <a:ext cx="8496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死者档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姓名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祥林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性别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十六七——四十上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身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寡妇、逃妇、女佣人、被卖的女人、改嫁的女人、幸福的妻子、幸福的母亲、再次丧夫的寡妇、被赶出自己家房子的人、女佣人、乞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亲属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遗产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竹篮、一个破碗、一根下端开裂的长竹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30364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698400"/>
            <a:ext cx="8496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死者档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生遭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，没了丈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春时，被迫改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快完时，阿毛被狼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春之际，她死在风雪交加的寒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1763640" y="3863880"/>
            <a:ext cx="583272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cc3300"/>
                </a:solidFill>
                <a:latin typeface="Arial"/>
                <a:ea typeface="黑体"/>
              </a:rPr>
              <a:t>一个没有春天的女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4842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2560" y="1397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知识积累（生字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4720" y="2133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识记作者及其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49400" y="34545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理清文章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04720" y="28386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了解文章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16080" y="4653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小说的环境描写及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58760" y="4076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分析人物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704000" cy="4248360"/>
          </a:xfrm>
          <a:prstGeom prst="rect">
            <a:avLst/>
          </a:prstGeom>
          <a:gradFill rotWithShape="0">
            <a:gsLst>
              <a:gs pos="0">
                <a:srgbClr val="bbe0e3">
                  <a:alpha val="18039"/>
                </a:srgbClr>
              </a:gs>
              <a:gs pos="100000">
                <a:srgbClr val="d0e9eb">
                  <a:alpha val="5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极俭省地画出一个人的特点，最好是画出他的眼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                      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刑侦专家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鲁  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-316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5920" y="40428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初到鲁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头上扎着白头绳，乌裙，蓝夹袄，月白背心，脸色青黄，但两颊还是红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顺着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  <a:ea typeface="华文隶书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再到鲁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头上扎着白头绳，乌裙，蓝夹袄，月白背心，脸色青黄，只是两颊上已经消失了血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顺着眼，眼角上带些泪痕，眼光也没有先 前那样精神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华文隶书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临死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五年前花白的头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即今已经全白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全不像四十上下的人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脸上瘦削不堪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黄中带黑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而且消尽了先前悲哀的神色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仿佛是木刻似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只有那眼珠间或一轮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还可以表示她是一个活物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她一手提着竹蓝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内中一个破碗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空的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一手拄着一支比她更长的竹竿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下端开了裂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她分明已经纯乎是一个乞丐了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那眼珠间或一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60360" y="708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肖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25520" y="1441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26600" y="2305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肖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26600" y="2940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眼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71520" y="40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肖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3680" y="625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-27000"/>
            <a:ext cx="1547640" cy="45972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920" y="755640"/>
            <a:ext cx="7274160" cy="56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找眼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论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到鲁镇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到鲁镇 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讲阿毛故事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捐  门  槛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让祝福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    乞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有无灵魂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1800" y="146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顺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52388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360" y="19890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顺着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眼角带着泪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133720"/>
            <a:ext cx="352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受打击，内心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1800" y="29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直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50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分外有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414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失神、窈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479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眼珠间或一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54450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忽然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5756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神有些麻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344952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有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1440" y="409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受打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472428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543096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丝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74680"/>
            <a:ext cx="823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比较它们的异同，思考其用意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595520"/>
            <a:ext cx="82310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通过肖像描写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首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示出的祥林嫂的性格特点：勤劳，朴实，善良，温顺，要求极低，易于满足。但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再到鲁镇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两颊和眼睛发生了变化，说明精神上受到刺激，极度悲伤。而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第三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显示其遭遇悲惨，乞讨无路，陷于绝境，内心深处受到摧残，精神麻木，已是濒于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正是用白描手法，在对比中显示人物的境遇，内心的痛苦和悲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73600" y="1749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对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8080" y="1749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论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5680" y="2468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我对话灵魂有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2960" y="254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3320" y="2468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封建迷信桎梏下矛盾的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9320" y="3117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四婶讲阿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0960" y="31892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80200" y="3117960"/>
            <a:ext cx="3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痛苦、自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9320" y="3908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大家讲阿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2600" y="3981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64560" y="3908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麻木、空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7680" y="4844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柳妈的对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0960" y="49179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6040" y="4844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重压，陷入恐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" y="557280"/>
            <a:ext cx="823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祥林嫂都说过哪些话？从中你可以看出她有怎样的心理特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37200" y="1225440"/>
            <a:ext cx="236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我”和祥林嫂最后一次见面时，她一连问“我”问题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映了什么？该怎样认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40920" y="2305080"/>
            <a:ext cx="5133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分析：祥林嫂想知道死掉的一家在地狱能见面吗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她希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有，这样就可以和阿毛及贺老六见面，又希望其无，因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害怕被锯成两半。这是她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封建迷信桎梏下内心的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痛苦。她提出这些问题，是在遭受一连串摧残和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磨后对封建传统观念的怀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2880" y="415800"/>
            <a:ext cx="59022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ff"/>
                </a:solidFill>
                <a:latin typeface="Arial"/>
              </a:rPr>
              <a:t>关于祥林嫂的反抗精神</a:t>
            </a:r>
            <a:r>
              <a:rPr b="1" lang="zh-CN" sz="31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905040"/>
            <a:ext cx="799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993366"/>
                </a:solidFill>
                <a:latin typeface="Arial"/>
              </a:rPr>
              <a:t>A:</a:t>
            </a:r>
            <a:r>
              <a:rPr b="1" i="1" lang="zh-CN" sz="2700" spc="-1" strike="noStrike">
                <a:solidFill>
                  <a:srgbClr val="993366"/>
                </a:solidFill>
                <a:latin typeface="Arial"/>
              </a:rPr>
              <a:t>祥林嫂对不幸的命运抗争过吗</a:t>
            </a:r>
            <a:r>
              <a:rPr b="1" i="1" lang="zh-CN" sz="2700" spc="-1" strike="noStrike">
                <a:solidFill>
                  <a:srgbClr val="993366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88960"/>
            <a:ext cx="80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抗争表现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1560600"/>
            <a:ext cx="748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逃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山中出逃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做工鲁镇—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2062080"/>
            <a:ext cx="27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维护自我尊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2786040"/>
            <a:ext cx="482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撞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改嫁中的“出格”行为</a:t>
            </a:r>
            <a:r>
              <a:rPr b="0" lang="zh-CN" sz="2700" spc="-1" strike="noStrike">
                <a:solidFill>
                  <a:srgbClr val="009900"/>
                </a:solidFill>
                <a:latin typeface="Arial"/>
              </a:rPr>
              <a:t>—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335772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对婆家为她安排的命运的反抗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4000680"/>
            <a:ext cx="482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捐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倾其所有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洗刷“污秽” —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58460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追求人的平等权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2720" y="5156280"/>
            <a:ext cx="460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9900"/>
                </a:solidFill>
                <a:latin typeface="Arial"/>
              </a:rPr>
              <a:t>问；死前问我鬼神—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5656320"/>
            <a:ext cx="43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对天经地义的神权的质疑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98160" y="2060640"/>
            <a:ext cx="51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敢于直面封建妇道、孝道</a:t>
            </a:r>
            <a:r>
              <a:rPr b="1" lang="zh-CN" sz="27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519120"/>
            <a:ext cx="849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100" spc="-1" strike="noStrike">
                <a:solidFill>
                  <a:srgbClr val="ff0000"/>
                </a:solidFill>
                <a:latin typeface="Arial"/>
              </a:rPr>
              <a:t>B:</a:t>
            </a:r>
            <a:r>
              <a:rPr b="1" i="1" lang="zh-CN" sz="3100" spc="-1" strike="noStrike">
                <a:solidFill>
                  <a:srgbClr val="ff0000"/>
                </a:solidFill>
                <a:latin typeface="Arial"/>
              </a:rPr>
              <a:t>你如何看待祥林嫂的抗争</a:t>
            </a:r>
            <a:r>
              <a:rPr b="1" i="1" lang="zh-CN" sz="31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i="1" lang="zh-CN" sz="3100" spc="-1" strike="noStrike">
                <a:solidFill>
                  <a:srgbClr val="ff0000"/>
                </a:solidFill>
                <a:latin typeface="Arial"/>
              </a:rPr>
              <a:t>这种抗争的实质是什么</a:t>
            </a:r>
            <a:r>
              <a:rPr b="1" i="1" lang="zh-CN" sz="31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1800" y="1488960"/>
            <a:ext cx="6694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9900"/>
                </a:solidFill>
                <a:latin typeface="Arial"/>
              </a:rPr>
              <a:t>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18464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156060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993366"/>
                </a:solidFill>
                <a:latin typeface="Arial"/>
              </a:rPr>
              <a:t>躲避被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6120" y="2060640"/>
            <a:ext cx="4654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9900"/>
                </a:solidFill>
                <a:latin typeface="Arial"/>
              </a:rPr>
              <a:t>撞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6360" y="24177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2720" y="213192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993366"/>
                </a:solidFill>
                <a:latin typeface="Arial"/>
              </a:rPr>
              <a:t>不愿二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1488960"/>
            <a:ext cx="288720" cy="1214640"/>
          </a:xfrm>
          <a:custGeom>
            <a:avLst/>
            <a:gdLst>
              <a:gd name="textAreaLeft" fmla="*/ 0 w 288720"/>
              <a:gd name="textAreaRight" fmla="*/ 104040 w 28872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8720" y="1846440"/>
            <a:ext cx="50752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993300"/>
                </a:solidFill>
                <a:latin typeface="Arial"/>
              </a:rPr>
              <a:t>从一而终”的封建观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6120" y="2703600"/>
            <a:ext cx="4654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9900"/>
                </a:solidFill>
                <a:latin typeface="Arial"/>
              </a:rPr>
              <a:t>捐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30718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11640" y="2560680"/>
            <a:ext cx="511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993366"/>
                </a:solidFill>
                <a:latin typeface="Arial"/>
              </a:rPr>
              <a:t>向</a:t>
            </a:r>
            <a:r>
              <a:rPr b="1" lang="zh-CN" sz="3700" spc="-1" strike="noStrike">
                <a:solidFill>
                  <a:srgbClr val="993300"/>
                </a:solidFill>
                <a:latin typeface="Arial"/>
              </a:rPr>
              <a:t>封建迷信</a:t>
            </a:r>
            <a:r>
              <a:rPr b="1" lang="zh-CN" sz="3700" spc="-1" strike="noStrike">
                <a:solidFill>
                  <a:srgbClr val="993366"/>
                </a:solidFill>
                <a:latin typeface="Arial"/>
              </a:rPr>
              <a:t>低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3500280"/>
            <a:ext cx="16556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500" spc="-1" strike="noStrike">
                <a:solidFill>
                  <a:srgbClr val="ff00ff"/>
                </a:solidFill>
                <a:latin typeface="Arial"/>
              </a:rPr>
              <a:t>总结</a:t>
            </a:r>
            <a:r>
              <a:rPr b="1" i="1" lang="zh-CN" sz="45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500280"/>
            <a:ext cx="7130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抗争是自发的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缺乏明确的认识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而且方式方法都是错误的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所以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抗争的结果只能是逃出“苦海”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又进“狼窝”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封建礼教与迷信在祥林嫂头脑中也是根深蒂固的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,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落后与愚昧仍然是祥林嫂性格中相当突出的因素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  <a:ea typeface="新宋体-18030"/>
              </a:rPr>
              <a:t>.</a:t>
            </a:r>
            <a:r>
              <a:rPr b="1" lang="zh-CN" sz="27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6000" y="2274840"/>
            <a:ext cx="8837640" cy="31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她以为辛勤劳作能安心生存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她以为丧夫、失子能博得同情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她以为捐得门槛能减去罪孽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祝福之时，她凄凉死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547560"/>
            <a:ext cx="7921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Arial"/>
                <a:ea typeface="黑体"/>
              </a:rPr>
              <a:t>亚里士多德说，悲剧人物要使人怜悯，“最重要之点，是性格必须善良”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692280"/>
            <a:ext cx="8643960" cy="223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祥林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旧中国农村劳动妇女的典型。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勤劳善良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安分耐劳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质朴、顽强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生活要求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但在封建礼教和封建思想占统治地位的旧社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里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曾不断地挣扎与反抗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但不能争得做人的起码权利，反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被践踏、遭迫害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被愚弄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受鄙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最终为旧社会吞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还是被社会压垮了，在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祝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中走向死亡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祥林嫂的悲剧深刻揭示了旧社会封建礼教对劳动妇女的摧残和迫害，控诉了封建礼教吃人的本质。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619280" cy="4899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死者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2708280"/>
            <a:ext cx="3527280" cy="76428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 一 课 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84360" y="-27000"/>
            <a:ext cx="3457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个没有春天的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476280"/>
            <a:ext cx="0" cy="638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7280" y="418320"/>
            <a:ext cx="43196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阿毛啊阿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天真烂漫的童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躺在春天的草窠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躺在妈妈的心窝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鲜血淋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祥林嫂啊祥林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夫死，从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可你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深信亡夫改嫁丧子都是犯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深信给土地庙捐门槛可以赎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深信祭拜鬼怪神仙可以祈求幸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（却只能虔诚地为别人祭祖祈福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不明白自己的圣洁美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不明白辛辛苦苦捐了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四婶为什么还让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远离祭祖远离祝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你不明白曾经比男人更能做的女强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为什么忽然沦为无所事事的废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Arial"/>
              </a:rPr>
              <a:t>不明白不明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至死都没有明白灵魂地狱的有还是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肯定明白合家欢乐的幸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然，那个喜气洋洋的祝福之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为什么甘冒谬种的骂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化作团团飞舞的雪花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那个曾经盛满白眼盛满辱骂盛满嘲笑的空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15920"/>
            <a:ext cx="31687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那年春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残酷的命运凋谢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那个叫祥林的男人的青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年纪轻轻以泪洗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承受了一个小寡妇的黑色命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又是春天，新春刚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被婆婆的权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五花大绑硬塞进花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被婆婆的精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卖给深山野墺的贺老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赚回一个幺儿媳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还余钱不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拼死反抗的结果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额头上鲜血直淌的大窟窿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没有碰撞到一丝丝贞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却留下自以为耻辱的伤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柳妈们津津乐道的笑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死也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小寡妇改嫁说不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枯木逢春交好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谁知道啊天有不测风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贺老六啊贺老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坚实的青春为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能痊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次小小的伤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恶狼吃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怎么会讲究季节阴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336960"/>
            <a:ext cx="4537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盛满了鞭炮爆竹的余香和鲁镇人永远的幸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，是你在人间的所有遗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祝福你啊没有春天的女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祝愿你在地狱和你的阿毛和你的男人团圆幸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即使你的肉身和爱情可能被上帝锯成两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封建社会的漫漫寒冬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女人女人的命运注定蜷缩在春天的千里之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04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2421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42100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708280"/>
            <a:ext cx="3527280" cy="76428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 二 课 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95640" y="260280"/>
            <a:ext cx="7215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讨论：祥林嫂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死，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凶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20640"/>
            <a:ext cx="9048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嫌疑人之一——鲁四老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嫌疑人之二——柳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三——四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四——卫老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五——祥林嫂的婆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六——“我”（报案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七——庙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八——鲁镇的男男女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七——大伯（第二个丈夫的哥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2133720"/>
            <a:ext cx="556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60840" y="-100080"/>
            <a:ext cx="5627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一——鲁四老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556000" cy="5205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6360" y="476280"/>
            <a:ext cx="91440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哪些地方可以看出鲁四老爷的特点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81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谬种”——冷酷无情、虚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989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次“皱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712880"/>
            <a:ext cx="168120" cy="1068480"/>
          </a:xfrm>
          <a:custGeom>
            <a:avLst/>
            <a:gdLst>
              <a:gd name="textAreaLeft" fmla="*/ 107640 w 168120"/>
              <a:gd name="textAreaRight" fmla="*/ 168480 w 168120"/>
              <a:gd name="textAreaTop" fmla="*/ 27720 h 1068480"/>
              <a:gd name="textAreaBottom" fmla="*/ 1040760 h 10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48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初到鲁镇，“讨厌她是一个寡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09960" y="198900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猜测可能是“逃”出来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22560" y="24415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进鲁镇     “败坏风俗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2878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恶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890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恶，然而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28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然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160" y="3868560"/>
            <a:ext cx="205092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婆婆抢的举动给自己带来麻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6320" y="3868560"/>
            <a:ext cx="271296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祥林嫂私自逃走礼教不容，婆婆做主理所当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182760"/>
            <a:ext cx="9144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3855960"/>
            <a:ext cx="157140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卫老婆子”先荐后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318276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3868560"/>
            <a:ext cx="291924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祥林嫂这样勤快的劳动力是不容易得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34113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411360"/>
            <a:ext cx="10670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3411360"/>
            <a:ext cx="609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341136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5408640"/>
            <a:ext cx="896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鲁四老爷他迂腐、保守、顽固，反对一切改革和革命，尊崇理学和孔孟之道，自觉维护封建制度和封建礼教。他自私伪善，冷酷无情，对祥林嫂的迫害大都是他授意或得到他默许的，是他通过“祝福”阻断了祥林嫂的生路，把她逼向死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16360" y="0"/>
            <a:ext cx="417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嫌疑人之二——柳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556000" cy="52056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333720" y="838080"/>
            <a:ext cx="1521000" cy="2014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柳   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95640" y="509760"/>
            <a:ext cx="397980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脸上已经打皱，眼睛已经干枯，可是还要给地主去帮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582480"/>
            <a:ext cx="1447920" cy="82548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受压迫的劳动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1387440"/>
            <a:ext cx="387036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对祥林嫂改嫁时留下的头上的伤疤采取奚落的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20000" y="1700280"/>
            <a:ext cx="1600200" cy="119124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受封建礼教和封建迷信思想的毒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2276640"/>
            <a:ext cx="3888000" cy="45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善意地把阴司故事讲给祥林嫂听，为祥林嫂寻求赎罪的办法，就她跳出苦海，结果适得其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1039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6360" y="1773360"/>
            <a:ext cx="77796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227640" y="242100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332000" y="869760"/>
            <a:ext cx="82080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18446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2133720"/>
            <a:ext cx="950760" cy="60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360" y="3833640"/>
            <a:ext cx="91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柳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同样是一个旧社会的受害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虽然她脸上已经“打皱”，眼睛已经“干枯”，可是在年节时还要给地主去帮工，可见她是一个受压迫的劳动妇女。但是由于她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受封建迷信思想和封建礼教的毒害很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相信地狱、报应之类的封建迷信思想和“饿死事小，失节事大”的理学信条。至于她讲阴司故事给祥林嫂听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本身没有什么恶意，也完全是出于善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主观愿望还是想为祥林嫂寻求“赎罪”的办法，救她出苦海，并非要置祥林嫂于死地。但柳妈以剥削阶级统治人民的思想——封建礼教和封建思想为指导，来寻求解救祥林嫂的“药方”，这不但不会产生疗救的效果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反而给自己的姐妹造成难以支持的精神重压，把祥林嫂推向更恐怖的深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56000" y="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疑人之三——四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3141720"/>
            <a:ext cx="85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婶只是看祥林嫂能干，把她当工具一样使用，并没有把她当人看。她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次断喝 暴露了封建礼教的虚伪冷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280" y="693000"/>
            <a:ext cx="907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四婶的三次断喝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第一次：“祥林嫂，你放着罢！我来摆。”四婶慌忙的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第二次：“祥林嫂，你放着罢！我来拿。” 四婶又慌忙的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第三次：“你放着罢，祥林嫂！”四婶慌忙大声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5080" y="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疑人之四——卫老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20" y="3673440"/>
            <a:ext cx="91454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卫老婆子是一位利欲熏心、毫无人情味、虚伪狡黠的中人形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以介绍人打工为职业，从中谋利。即使对祥林嫂这样一个善良、安分耐劳、命运悲惨的人，也把她当作自己谋取金钱的工具，即使对鲁四老爷这样有钱有势的大户人家，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她为了拿到祥林嫂婆婆的一点施舍，也敢于欺骗，合伙将祥林嫂劫走，她认为祥林嫂被卖给贺老六是“交了好运”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鲁镇，她奔走于大户人家和穷困潦倒人家之间，凭借一张能说会道的嘴，貌似有同情、怜悯之心，活得有滋有味。因为她被金钱所迷、被封建礼教所缚，不能认识自己的所作所为实为封建统治者的奴才勾当，她认为自己在鲁镇能左右逢源，能说会道，且会挣钱，是一个能人。实际上，她被金钱和礼教吞噬了灵魂，而同时又帮着封建礼教吞噬任何一位她认为有可能被吞噬的人。祥林嫂被四婶赶出家门，卫老婆子再也不来帮她介绍打工的人家了，因为她认为祥林嫂再也没有能力充当她赚钱的工具。因此，卫老婆子和祥林嫂之间纯粹是一种金钱关系，卫老婆子命运的悲剧性更显示祥林嫂命运的可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0440" y="17316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疑人之五——祥林嫂的婆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26828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婆婆强迫祥林嫂改嫁，说明旧社会劳动妇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人身自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丈夫死了还得受制于婆婆。绳子一捆，塞在花轿里，以八十千的价格“卖”掉了。祥林嫂的出格反抗也不可能改变她的命运。从中我们还可看到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婆婆卖媳妇是应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甚至人们还夸她精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祥林嫂的反抗是不应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这个角度上，封建思想是支持她婆婆的，婆婆可以支配媳妇的命运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但改嫁又偏偏是祥林嫂最大也是唯一的罪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这个方面，封建思想又不可能原谅祥林嫂的“罪”。在这个矛盾中，我们看不到祥林嫂的活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56000" y="1731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疑人之六——“我”（报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3571920"/>
            <a:ext cx="86407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有进步思想的小资产阶级知识分子的形象有反封建的思想倾向，憎恶鲁四老爷，同情祥林嫂。对祥林嫂提出的“魂灵的有无”的问题，之所以作了含糊的回答，有其善良的一面；同时也反映了“我”的软弱和无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346040"/>
            <a:ext cx="82836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333399"/>
                </a:solidFill>
                <a:latin typeface="Arial"/>
                <a:ea typeface="黑体"/>
              </a:rPr>
              <a:t>对鲁镇的态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333399"/>
                </a:solidFill>
                <a:latin typeface="Arial"/>
                <a:ea typeface="黑体"/>
              </a:rPr>
              <a:t>回答祥林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333399"/>
                </a:solidFill>
                <a:latin typeface="Arial"/>
                <a:ea typeface="黑体"/>
              </a:rPr>
              <a:t>了解祥林嫂死因及死后的心理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55640" y="1125360"/>
            <a:ext cx="820908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镇上的人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镇上的人们对祥林嫂的遭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任何的同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们一开始只是用祥林嫂的悲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满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下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猎奇心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等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厌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，便对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嘲笑唾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表现出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冷漠厌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态度，他们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受封建礼教思想毒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人，正是由于这种思想统治了他们的灵魂，所以，他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鄙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林嫂，他们的态度，也增加了祥林嫂精神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痛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们和鲁四老爷一起，把祥林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了死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5880" y="1731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嫌疑人之八——鲁镇的男男女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6560" y="907920"/>
            <a:ext cx="475308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81-193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 原名周树人，字豫才，浙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绍兴人，伟大的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家、文学家、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67200" y="1413000"/>
            <a:ext cx="395280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7164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祥林嫂是非死不可的，同情她的人和冷酷的人，自私的人，是一样把她往死地里赶，是一样使她增加痛苦。”                      ——丁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55600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嫌疑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3357720"/>
            <a:ext cx="882036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无数的人肉的筵宴，即从有文明以来一直排到现在，人们就在这会场中</a:t>
            </a:r>
            <a:r>
              <a:rPr b="1" lang="zh-CN" sz="3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吃人，被吃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凶人的愚妄的欢呼，将悲惨的弱者的呼号遮掩，更不消说女人和小儿。”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鲁迅  《灯下漫笔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8520" y="1149480"/>
            <a:ext cx="89074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  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鲁四老爷、祥林嫂的婆婆、柳妈、众人以及“我”，</a:t>
            </a:r>
            <a:r>
              <a:rPr b="1" lang="zh-CN" sz="3700" spc="-1" strike="noStrike" u="sng">
                <a:solidFill>
                  <a:srgbClr val="000000"/>
                </a:solidFill>
                <a:uFillTx/>
                <a:latin typeface="楷体_GB2312"/>
                <a:ea typeface="黑体"/>
              </a:rPr>
              <a:t>他们在精神上、灵魂上都影响了祥林嫂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，他们自觉或不自觉地受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黑体"/>
              </a:rPr>
              <a:t>封建伦理道德、礼教思想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的驱使，致使</a:t>
            </a:r>
            <a:r>
              <a:rPr b="1" lang="zh-CN" sz="37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祥林嫂成为愚昧、吃人的封建礼教思想的牺牲品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939040" y="22399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死亡地点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71840" y="907920"/>
            <a:ext cx="566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死者一生去过的地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卫家山——鲁镇——贺家墺——鲁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226836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案发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54936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镇”是一个怎么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0680" y="126756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“如此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5080" y="2122200"/>
            <a:ext cx="537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年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如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家家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如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——只要买得起福礼和爆竹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的——今年自然也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如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360" y="37839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三个如此”点出了辛亥革命后农村风俗习惯依旧，封建思想依旧，阶级关系依旧，人们的思想意识依旧，封建势力和封建思想的统治依旧。表达了作者对这种气氛的反感与贬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8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4360" y="1052640"/>
            <a:ext cx="8459640" cy="36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26836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案发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2760" y="54864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次“祝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1052640"/>
            <a:ext cx="8532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们也都没有什么大改变，单是老了些；家中却一律忙，都在准备着“祝福”。这是鲁镇年终的大典，致敬尽礼，迎接福神，拜求来年一年中的好运气的。杀鸡，宰鹅，买猪肉，用心细细的洗，女人的臂膊都在水里浸得通红，有的还带着绞丝银镯子。煮熟之后，横七竖八的插些筷子在这类东西上，可就称为“福礼”了，五更天陈列起来，并且点上香烛，恭请福神们来享用，拜的却只限于男人，拜完自然仍然是放爆竹。年年如此，家家如此，——只要买得起福礼和爆竹之类的——今年自然也如此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280" y="1065240"/>
            <a:ext cx="394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63920" y="5157720"/>
            <a:ext cx="5662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cc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祝福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：揭示祥林嫂悲剧的社会根源，预示祥林嫂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cc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的必然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836640"/>
            <a:ext cx="9144000" cy="511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26836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案发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404640"/>
            <a:ext cx="89647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第二次祝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是暗暗地告诫四姑说，这种人虽然似乎很可怜，但是败坏风俗的，用她帮忙还可以，祭祀时候可用不着她沾手，一切饭莱，只好自已做，否则，不干不净，祖宗是不吃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四叔家里最重大的事件是祭祀，祥林嫂先前最忙的时候也就是祭祀，这回她却清闲了。桌子放在堂中央，系上桌帏，她还记得照旧的去分配酒杯和筷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“祥林嫂，你放着罢！我来摆。”四婶慌忙的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她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讪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缩了手，又去取烛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“祥林嫂，你放着罢！我来拿。”四婶又慌忙的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她转了几个圆圈，终于没有事情做，只得疑惑的走开。她在这一天可做的事是不过坐在灶下烧火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至的祭祖时节，她做得更出力，看四婶装好祭品，和阿牛将桌子抬到堂屋中央，她便坦然的去拿酒杯和筷子。 “你放着罢，祥林嫂！”四婶慌忙大声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27280" y="6093000"/>
            <a:ext cx="58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祝福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：推动情节发展，增强人物形象的真实性和感染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2268360" cy="581400"/>
          </a:xfrm>
          <a:prstGeom prst="rect">
            <a:avLst/>
          </a:prstGeom>
          <a:solidFill>
            <a:srgbClr val="71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案发地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-326880"/>
            <a:ext cx="9144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三次祝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给那些因为在近旁而极响的爆竹声惊醒，看见豆一般大的黄色的灯火光，接着又听得毕毕剥剥的鞭炮，是四叔家正在“祝福”了；知道已是五更将近时候。我在蒙胧中，又隐约听到远处的爆竹声联绵不断，似乎合成一天音响的浓云，夹着团团飞舞的雪花，拥抱了全市镇。我在这繁响的拥抱中，也懒散而且舒适，从白天以至初夜的疑虑，全给祝福的空气一扫而空了，只觉得天地圣众歆享了牲醴和香烟，都醉醺醺的在空中蹒跚，豫备给鲁镇的人们以无限的幸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10080" y="5076720"/>
            <a:ext cx="567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祝福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：首尾呼应，有钱人在祈求幸福，穷苦人却在祝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中死去。深化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9240" y="-2700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多次写到雪景的作用是什么</a:t>
            </a:r>
            <a:r>
              <a:rPr b="1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413000"/>
            <a:ext cx="849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第一次：为祥林嫂的死渲染了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第二次：表达了“我”像雪一样的心情，无可奈何而又无法言说的悲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第三次：增添了悲剧的浓重氛围，借助了雪的猖狂讽刺了封建势力的暂时得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450800" y="1989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社会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鲁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459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自然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7080" y="861840"/>
            <a:ext cx="44640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封建迷信的毒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封建礼教的束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封闭的农村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群众的淡薄、冷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4292640"/>
            <a:ext cx="2952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旧历的年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雪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8000" y="1109520"/>
            <a:ext cx="287280" cy="22482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8320 h 2248200"/>
              <a:gd name="textAreaBottom" fmla="*/ 2189880 h 224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4451400"/>
            <a:ext cx="217440" cy="993600"/>
          </a:xfrm>
          <a:custGeom>
            <a:avLst/>
            <a:gdLst>
              <a:gd name="textAreaLeft" fmla="*/ 138960 w 217440"/>
              <a:gd name="textAreaRight" fmla="*/ 217800 w 217440"/>
              <a:gd name="textAreaTop" fmla="*/ 25920 h 993600"/>
              <a:gd name="textAreaBottom" fmla="*/ 967680 h 99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620640"/>
            <a:ext cx="89647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09c3"/>
                </a:solidFill>
                <a:latin typeface="Times New Roman"/>
                <a:ea typeface="楷体_GB2312"/>
              </a:rPr>
              <a:t>小说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呐喊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收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18——19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的小说，如《狂人日记》、《药》、《一件小事》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传》、《故乡》、《社戏》、《孔乙己》等，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彷徨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18——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小说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祝福》是第一篇，另外还有《伤逝》、《离婚》等，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故事新编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收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2——193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间所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八篇作品，如《非攻》、《铸剑》、《理水》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4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609c3"/>
                </a:solidFill>
                <a:latin typeface="Times New Roman"/>
                <a:ea typeface="华文新魏"/>
              </a:rPr>
              <a:t>鲁迅先生的作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7280" y="40464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探究成果展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作品中景物描写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渲染故事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暗示社会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奠定感情基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烘托人物形象（身份 性格 心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暗示、推动情节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暗示人物命运（处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深化作品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867400" y="20239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死亡时间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4360" y="387360"/>
            <a:ext cx="80643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昨天夜里，或者就是今天吧”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旧历的年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镇祝福时节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骂其新党……还是康有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但祥林嫂实际上早死了，她死于何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以“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 action="ppaction://hlinksldjump"/>
              </a:rPr>
              <a:t>祝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”为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起于祝福，终于祝福，中间一再写到祝福，情节的发展与祝福密切相关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祥林嫂的悲惨遭遇是在祝福的欢乐气氛中展开的，鲜明的对照深化了小说的主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828160" y="1916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报案人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0000" y="333360"/>
            <a:ext cx="1440000" cy="1143000"/>
          </a:xfrm>
          <a:prstGeom prst="rect">
            <a:avLst/>
          </a:prstGeom>
          <a:solidFill>
            <a:srgbClr val="16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557360"/>
            <a:ext cx="806436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”是一个具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进步思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小资产阶级知识分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的形象，同情劳动人民，不满黑暗现实，但也有软弱和无能的一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”是全文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线索人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，祥林嫂一生的悲惨遭遇都是通过“我‘的所见所闻来展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00000" y="47628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”对“魂灵的有无”的回答是含糊其词，是“说不清”，有其善良的一面，也表现了“我”的无能和逃避现实的心理。“我”准备到福兴楼去吃鱼翅，也是逃避现实的具体行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1125360"/>
            <a:ext cx="799308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我”是祥林嫂最后见到的人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说，虽然不是“我”最后害死了祥林嫂，我却使祥林嫂死得很恐怖。基于良心不安，“我”把祥林嫂的一生写出来，以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赎其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796120" y="20955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死亡原因分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4360" y="1125360"/>
            <a:ext cx="71276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不是穷死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穷死的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8000" y="13824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609c3"/>
                </a:solidFill>
                <a:latin typeface="Times New Roman"/>
                <a:ea typeface="华文新魏"/>
              </a:rPr>
              <a:t>鲁迅先生的作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907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Times New Roman"/>
                <a:ea typeface="楷体_GB2312"/>
              </a:rPr>
              <a:t>散文集：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朝花夕拾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原名《旧事重提》，包括《藤野先生》、《从百草原到三味书屋》、《阿长与〈山海经〉》、《范爱农》等回忆性散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4840" y="35114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Times New Roman"/>
                <a:ea typeface="楷体_GB2312"/>
              </a:rPr>
              <a:t>散文诗集：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野草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6560" y="44355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Times New Roman"/>
                <a:ea typeface="楷体_GB2312"/>
              </a:rPr>
              <a:t>杂文集：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《南腔北调集》、《而已集》、《二心集》、《且介亭杂文》《华盖集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914400" y="549360"/>
            <a:ext cx="2438280" cy="1676160"/>
            <a:chOff x="914400" y="549360"/>
            <a:chExt cx="2438280" cy="1676160"/>
          </a:xfrm>
        </p:grpSpPr>
        <p:sp>
          <p:nvSpPr>
            <p:cNvPr id="354" name=""/>
            <p:cNvSpPr/>
            <p:nvPr/>
          </p:nvSpPr>
          <p:spPr>
            <a:xfrm>
              <a:off x="1219320" y="114300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政  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14400" y="549360"/>
              <a:ext cx="2438280" cy="1676160"/>
            </a:xfrm>
            <a:prstGeom prst="wedgeEllipseCallout">
              <a:avLst>
                <a:gd name="adj1" fmla="val 48439"/>
                <a:gd name="adj2" fmla="val 6657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867280" y="457200"/>
            <a:ext cx="2438640" cy="1676520"/>
            <a:chOff x="5867280" y="457200"/>
            <a:chExt cx="2438640" cy="1676520"/>
          </a:xfrm>
        </p:grpSpPr>
        <p:sp>
          <p:nvSpPr>
            <p:cNvPr id="357" name=""/>
            <p:cNvSpPr/>
            <p:nvPr/>
          </p:nvSpPr>
          <p:spPr>
            <a:xfrm>
              <a:off x="5867280" y="457200"/>
              <a:ext cx="2438640" cy="1676520"/>
            </a:xfrm>
            <a:prstGeom prst="wedgeEllipseCallout">
              <a:avLst>
                <a:gd name="adj1" fmla="val -39060"/>
                <a:gd name="adj2" fmla="val 711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91440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族  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095880" y="4489560"/>
            <a:ext cx="2438640" cy="1676160"/>
            <a:chOff x="6095880" y="4489560"/>
            <a:chExt cx="2438640" cy="1676160"/>
          </a:xfrm>
        </p:grpSpPr>
        <p:sp>
          <p:nvSpPr>
            <p:cNvPr id="360" name=""/>
            <p:cNvSpPr/>
            <p:nvPr/>
          </p:nvSpPr>
          <p:spPr>
            <a:xfrm>
              <a:off x="6095880" y="4489560"/>
              <a:ext cx="2438640" cy="1676160"/>
            </a:xfrm>
            <a:prstGeom prst="wedgeEllipseCallout">
              <a:avLst>
                <a:gd name="adj1" fmla="val -53125"/>
                <a:gd name="adj2" fmla="val -550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77120" y="480060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神  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09480" y="4648320"/>
            <a:ext cx="2438640" cy="1676160"/>
            <a:chOff x="609480" y="4648320"/>
            <a:chExt cx="2438640" cy="1676160"/>
          </a:xfrm>
        </p:grpSpPr>
        <p:sp>
          <p:nvSpPr>
            <p:cNvPr id="363" name=""/>
            <p:cNvSpPr/>
            <p:nvPr/>
          </p:nvSpPr>
          <p:spPr>
            <a:xfrm>
              <a:off x="609480" y="4648320"/>
              <a:ext cx="2438640" cy="1676160"/>
            </a:xfrm>
            <a:prstGeom prst="wedgeEllipseCallout">
              <a:avLst>
                <a:gd name="adj1" fmla="val 59375"/>
                <a:gd name="adj2" fmla="val -5956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4400" y="510552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夫 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04920" y="3048120"/>
            <a:ext cx="259056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  <a:ea typeface="华文行楷"/>
              </a:rPr>
              <a:t>封建礼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3048120"/>
            <a:ext cx="259092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封建迷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274320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58920" y="980640"/>
            <a:ext cx="6842160" cy="4753080"/>
          </a:xfrm>
          <a:prstGeom prst="rect">
            <a:avLst/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b3d7da">
                  <a:alpha val="6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祥林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非死不行的，同情她的人和冷酷的人，自私的人，是一样把她往死里赶，是一样使她精神上增加痛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刑侦专家丁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745720" y="198900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     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2160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结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062920" cy="46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《祝福》通过祥林嫂一生的悲惨遭遇，反映了辛亥革命以后中国的社会矛盾，深刻地揭露了封建礼教吃人的本质，指出彻底反封建的必要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刑侦专家许寿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人世间的惨事，不惨在狼吃阿毛，而惨在礼教吃祥林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0120"/>
            <a:ext cx="8219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关于《彷徨》及《祝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7720"/>
            <a:ext cx="8229600" cy="45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Ａ．鲁迅此时的思想状况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由呐喊到彷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Ｂ．１９２４年前后的历史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zh-CN" sz="4100" spc="-1" strike="noStrike">
                <a:solidFill>
                  <a:srgbClr val="cc3300"/>
                </a:solidFill>
                <a:latin typeface="黑体"/>
                <a:ea typeface="黑体"/>
              </a:rPr>
              <a:t>辛亥革命１９１１年        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cc3300"/>
                </a:solidFill>
                <a:latin typeface="黑体"/>
                <a:ea typeface="黑体"/>
              </a:rPr>
              <a:t>    </a:t>
            </a:r>
            <a:r>
              <a:rPr b="1" lang="zh-CN" sz="4100" spc="-1" strike="noStrike">
                <a:solidFill>
                  <a:srgbClr val="cc3300"/>
                </a:solidFill>
                <a:latin typeface="黑体"/>
                <a:ea typeface="黑体"/>
              </a:rPr>
              <a:t>五四运动  １９１９年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1640" y="135000"/>
            <a:ext cx="63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创作背景及时代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828720"/>
            <a:ext cx="8569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祝福》写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，后收入作者的第二个小说集《彷徨》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是《彷徨》的第一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世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代，正是中国新文化运动的发展时期。新文化运动的口号是“民主、科学”，而阻碍中国进入民主、科学时代的最大障碍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就是中国两千多年遗留下来的腐朽、愚昧的封建思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妇女则是中国封建思想最大的受害者。鲁迅选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妇女题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是为了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深刻揭露封建思想文化的流弊和余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38480" y="4005360"/>
            <a:ext cx="6905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 《狂人日记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060200"/>
            <a:ext cx="73789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翻开历史一看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历史没有年代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斜斜的每叶上都写着‘仁义道德’几个字。我横竖睡不着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看了半夜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从字缝里看出字来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本都写着两个字是</a:t>
            </a:r>
            <a:r>
              <a:rPr b="1" lang="zh-CN" sz="3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‘吃人’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6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7:44:56Z</dcterms:created>
  <dc:creator/>
  <dc:description/>
  <dc:language>en-US</dc:language>
  <cp:lastModifiedBy>榕江博新电脑</cp:lastModifiedBy>
  <dcterms:modified xsi:type="dcterms:W3CDTF">2012-11-21T16:27:25Z</dcterms:modified>
  <cp:revision>0</cp:revision>
  <dc:subject/>
  <dc:title/>
</cp:coreProperties>
</file>